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280-F981-4C59-AC4D-2E04D6D1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43F-9CB8-46AC-853C-76015660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6F7-81CF-4C5C-8C64-31C842BE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38F-6F3B-4495-A2BE-422B6230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1DD-6853-49E3-9333-53DE957F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047-C046-4624-A7B3-AD4E681A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7FBC-52EF-43AA-A539-54FAA79C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CBD-DB1A-42BC-BD53-934192A9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7338-46B6-4E8A-9A5F-6B589222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828-CF08-4283-A8F1-6007F9CD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E57-6256-4862-9682-7B319F01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835D-5877-4F17-B7F0-577758A9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FBEF-83FA-4CE1-89CD-9E921C91A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oup 7" descr=""/>
          <p:cNvPicPr/>
          <p:nvPr/>
        </p:nvPicPr>
        <p:blipFill>
          <a:blip r:embed="rId1"/>
          <a:stretch/>
        </p:blipFill>
        <p:spPr>
          <a:xfrm>
            <a:off x="-115920" y="-55440"/>
            <a:ext cx="1305000" cy="1463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828720" y="449280"/>
            <a:ext cx="62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меры социальной поддержки семей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х дет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11" descr=""/>
          <p:cNvPicPr/>
          <p:nvPr/>
        </p:nvPicPr>
        <p:blipFill>
          <a:blip r:embed="rId2"/>
          <a:stretch/>
        </p:blipFill>
        <p:spPr>
          <a:xfrm>
            <a:off x="6581880" y="111240"/>
            <a:ext cx="1787400" cy="118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4"/>
          <p:cNvSpPr/>
          <p:nvPr/>
        </p:nvSpPr>
        <p:spPr>
          <a:xfrm>
            <a:off x="1422360" y="6381720"/>
            <a:ext cx="68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Телефон «горячей линии» Отделения ПФР по Приморскому краю: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(423)249-86-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47680" y="1203480"/>
            <a:ext cx="8645400" cy="524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23:45Z</dcterms:created>
  <dc:creator>000210</dc:creator>
  <dc:description/>
  <dc:language>en-US</dc:language>
  <cp:lastModifiedBy>Вовченко Александра Александровна</cp:lastModifiedBy>
  <cp:lastPrinted>2020-05-13T22:14:31Z</cp:lastPrinted>
  <dcterms:modified xsi:type="dcterms:W3CDTF">2020-05-13T23:49:08Z</dcterms:modified>
  <cp:revision>2313</cp:revision>
  <dc:subject/>
  <dc:title>Слайд 1</dc:title>
</cp:coreProperties>
</file>